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6B3-D8E3-4DC6-94AB-D8B0803A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2D2-4C2F-47C0-8650-1CCF658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7F3-E2F8-4850-8F40-A391C79D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C6C-7352-45AD-B512-A0827BD6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4E9-8574-4A60-B7C5-CB2D101B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FC8-2400-4001-A776-5DEA6529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DDF-1FEE-4D42-A4AC-E879BFB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26E-C66D-4696-BE82-D896C4C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794C-ECA2-4763-A67E-E93BB75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8251-0701-4583-B078-3A45D15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0DA-3D6D-42EA-9A06-F1924D9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2A4-D056-42E5-B14E-41AD1848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3514-DCB5-4E8E-9E23-8C51125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BA07-488E-4C19-B0FA-8FF1E7D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BE5-4DAE-4B6A-837F-3E237FB1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BE97-D7B0-4BCE-ADD9-E160F09D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6E5D-C5A5-4B56-80A7-2D6433C0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E7A-412D-496E-8F8C-B2D03F2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EE6-B3B5-4F2E-9248-50A1F71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BA3-4CA0-4E02-8F78-6A8BF4B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D38-6907-460B-B2E6-96732CB8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938-410A-40C1-9D18-559888E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248-35D3-46FB-9B4B-2DDAA68E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156-57F4-481E-958A-F348F82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1d90b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49B-47E9-4B6F-93F3-2DC07CB18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90b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96E3-9365-461A-97DF-C54A524FD2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1d90b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6933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0b9"/>
                </a:solidFill>
                <a:latin typeface="Arial"/>
              </a:rPr>
              <a:t>Creating Executable Programs </a:t>
            </a:r>
            <a:br>
              <a:rPr sz="3600"/>
            </a:br>
            <a:r>
              <a:rPr b="1" lang="en-US" sz="3600" spc="-1" strike="noStrike">
                <a:solidFill>
                  <a:srgbClr val="1d90b9"/>
                </a:solidFill>
                <a:latin typeface="Arial"/>
              </a:rPr>
              <a:t>on the Mainframe</a:t>
            </a:r>
            <a:r>
              <a:rPr b="1" lang="en-US" sz="4800" spc="-1" strike="noStrike">
                <a:solidFill>
                  <a:srgbClr val="6699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January 2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F042-1990-482E-9E3D-F1775F3127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9880"/>
            <a:ext cx="754380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7200" y="3506760"/>
            <a:ext cx="8460360" cy="21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676520"/>
            <a:ext cx="776952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 statement identifies the program or procedure to be executed in the job step. It can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ep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name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EXEC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E85-A9D7-4BE3-9293-1ABB3847DE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8080" y="4800600"/>
            <a:ext cx="792504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114800"/>
            <a:ext cx="8429760" cy="239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143000"/>
            <a:ext cx="7769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D statement allocates the data sets required by the program or procedure.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name field must be the same as the one that’s used in the program or procedu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typically code the DD statement for a printer file using the SYSOUT = * format. Then, the output is processed based on the default output class or the output class you specify in the MSGCLASS parameter of the JOB state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specify a dummy data set by coding the DUMMY parameter on its DD stat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DD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4D9-56A6-42AC-827D-7D6B5A33D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838080"/>
          <a:ext cx="811980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11980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F04-0A71-43E5-8FBE-DEF1A94A4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457200"/>
          <a:ext cx="7959600" cy="58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79596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15A-2726-4B6E-83A4-32C3C9F5DC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609480"/>
          <a:ext cx="787068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87068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7B1-D124-4105-8E71-4C97BC0D7F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1295280"/>
          <a:ext cx="8145360" cy="54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14536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294-F232-461E-8310-D571CCE936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33520" y="304920"/>
          <a:ext cx="814392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14392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920-56F0-4A54-90A3-2EAE69F72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228600"/>
          <a:ext cx="8094960" cy="75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094960" cy="75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47E-ACAC-4D67-81E8-76CBA371A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28480" y="384120"/>
          <a:ext cx="7853400" cy="602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84120"/>
                    <a:ext cx="78534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11B-49B1-4D01-8E0B-FAD46D5BB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- Status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E2D-59B6-4BDE-B377-711E0035AC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ecture Overview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execution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S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iling and exec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 1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tch and online m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ing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/debugging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B81-FA2B-4293-8C59-926A5582BC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- Owner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811160"/>
            <a:ext cx="777240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330-E5E0-404D-9464-75C77E0682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– Select Job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792468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139-1D97-4C91-B02E-6634A6B799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– View Output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0100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F0F-2576-452A-BE6F-2C26BF1F54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457200"/>
          <a:ext cx="7775640" cy="67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7756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F1B-FBE1-42CA-9C5D-8C51FF15C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463680" y="608040"/>
          <a:ext cx="8286480" cy="49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608040"/>
                    <a:ext cx="828648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721-7718-4592-B46D-A33EB46E4E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57200" y="990720"/>
          <a:ext cx="8521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521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5CF-0A8A-4645-A58B-D5BF15CDB4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ile, link and run a “Hello World” Cobol applic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/Run the program using JC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the program in Batch and online (TSO) m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3 P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cobol program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x.HELLO.COB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the JCL to compile/run the program: xxx.HELLO.J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resulting executable: xxx.HELLO.LO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where ‘XXX’ is your User 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703-7FE2-4999-9955-1C177F0050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COBO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the source code “Hello World” Cobol example: xxx.HELLO.COBOL(FIR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ould be done using ISPF. Note that the line numbers are created/updated automa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104-BE03-4D48-B45C-1CE26D8DD0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Cobol Program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1828800"/>
          <a:ext cx="769644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DB3-44C8-443E-9832-24BEC50D38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JC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he JCL used to compile/link/run the hello world exampl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be in the JCL PDS: XXX.HELLO.JCL(COMP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107-22E0-4611-A3AF-D60072CD08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d90b9"/>
                </a:solidFill>
                <a:latin typeface="Arial"/>
              </a:rPr>
              <a:t>Example: Compile/Execution Structure</a:t>
            </a:r>
            <a:endParaRPr b="1" lang="en-US" sz="31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352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276720"/>
            <a:ext cx="1371600" cy="1066680"/>
          </a:xfrm>
          <a:prstGeom prst="rect">
            <a:avLst/>
          </a:prstGeom>
          <a:solidFill>
            <a:srgbClr val="1d90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pi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3276720"/>
            <a:ext cx="1371600" cy="106668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ec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FBA-31E8-4725-8F9F-9C64026C2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JC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9144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600200"/>
          <a:ext cx="7581960" cy="50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758196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0FD-B0B3-4D18-B914-A6B5935D4B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– Execute (Batch)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ecute the JCL – from within ISPF (when editing the JCL), enter the command ‘submit’ on the command lin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ka the line that has “Command ===&gt;”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EP 5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ew the results from executing the JCL. From the top level in ISP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command 13 (SDSF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 (to view output from the batch job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Filter based on owner (your account id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be able to see the output “MYHELLO” – that was the name of the JOB (you can see this in the JC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the output, one would enter an “?” in the left column prior to the name of the output. This will show the different “tasks in the JC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o see the actual output, enter a “s” next to the output you want to view (Hint: Look at the “GO”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FE0-CB75-419C-AE03-42810A4D93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– Execute (TSO)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 using T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Using ISPF “command” -  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OCATE DDNAME(SYSOUT) DSNAME(*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OCATE DDNAME(SYSIN) DSNAME(*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LL ’xxx.HELLO.LOAD(FIRST)'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F0D-4B3B-47F5-ACA8-489AC2D2C4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990720" y="533520"/>
          <a:ext cx="786132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8613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D1F-6992-41BA-BE0F-D92DB001F3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62120" y="380880"/>
          <a:ext cx="597348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59734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155600" y="1060560"/>
            <a:ext cx="671832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F9C-78B8-46EC-924A-0FC05CB541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304920" y="762120"/>
          <a:ext cx="816768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1676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53F-B868-4822-9A37-A1B468E0B3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838080" y="457200"/>
          <a:ext cx="78804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78804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162080" y="1082520"/>
            <a:ext cx="6711840" cy="48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828-6976-4A5F-B7DB-E527BECBE4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" y="152280"/>
          <a:ext cx="797868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7978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FCC-E013-41B8-96AA-7EA5826416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09480" y="762120"/>
          <a:ext cx="7793280" cy="35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77932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9E4-EE1B-4626-8B39-A5DE7890A1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57200" y="304920"/>
          <a:ext cx="8062920" cy="55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06292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165320" y="762120"/>
            <a:ext cx="64674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D91-40A4-4D21-AF25-04E3F36906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d90b9"/>
                </a:solidFill>
                <a:latin typeface="Arial"/>
              </a:rPr>
              <a:t>Program Execution Components</a:t>
            </a:r>
            <a:endParaRPr b="1" lang="en-US" sz="3500" spc="-1" strike="noStrike">
              <a:solidFill>
                <a:srgbClr val="1d90b9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4920" y="2133720"/>
            <a:ext cx="8533800" cy="3696840"/>
            <a:chOff x="304920" y="2133720"/>
            <a:chExt cx="8533800" cy="3696840"/>
          </a:xfrm>
        </p:grpSpPr>
        <p:grpSp>
          <p:nvGrpSpPr>
            <p:cNvPr id="165" name=""/>
            <p:cNvGrpSpPr/>
            <p:nvPr/>
          </p:nvGrpSpPr>
          <p:grpSpPr>
            <a:xfrm>
              <a:off x="304920" y="2133720"/>
              <a:ext cx="6857280" cy="3696840"/>
              <a:chOff x="304920" y="2133720"/>
              <a:chExt cx="6857280" cy="369684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920" y="287280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BO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25200" y="34779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1d90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C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40827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p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brar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83800" y="3343680"/>
                <a:ext cx="94140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1783800" y="4015440"/>
                <a:ext cx="94140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3320" y="34779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ad Mo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04080" y="3948480"/>
                <a:ext cx="147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8400" y="5225760"/>
                <a:ext cx="671760" cy="604800"/>
              </a:xfrm>
              <a:prstGeom prst="can">
                <a:avLst>
                  <a:gd name="adj" fmla="val 25000"/>
                </a:avLst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464640" y="441900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92160" y="2133720"/>
                <a:ext cx="1277280" cy="739080"/>
              </a:xfrm>
              <a:prstGeom prst="roundRect">
                <a:avLst>
                  <a:gd name="adj" fmla="val 16667"/>
                </a:avLst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ther COBO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gra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64640" y="2872800"/>
                <a:ext cx="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83320" y="488952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1d90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C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execut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ad modu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422760" y="4419000"/>
                <a:ext cx="0" cy="47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07120" y="3746880"/>
                <a:ext cx="1006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re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696080" y="2819520"/>
              <a:ext cx="1142640" cy="2971800"/>
            </a:xfrm>
            <a:custGeom>
              <a:avLst/>
              <a:gdLst>
                <a:gd name="textAreaLeft" fmla="*/ 55440 w 1142640"/>
                <a:gd name="textAreaRight" fmla="*/ 1087200 w 1142640"/>
                <a:gd name="textAreaTop" fmla="*/ 55440 h 2971800"/>
                <a:gd name="textAreaBottom" fmla="*/ 2916360 h 2971800"/>
              </a:gdLst>
              <a:ahLst/>
              <a:rect l="textAreaLeft" t="textAreaTop" r="textAreaRight" b="textAreaBottom"/>
              <a:pathLst>
                <a:path w="21600" h="56167">
                  <a:moveTo>
                    <a:pt x="3600" y="0"/>
                  </a:moveTo>
                  <a:arcTo wR="3600" hR="3600" stAng="16200000" swAng="-5400000"/>
                  <a:lnTo>
                    <a:pt x="0" y="52567"/>
                  </a:lnTo>
                  <a:arcTo wR="3600" hR="3600" stAng="10800000" swAng="-5400000"/>
                  <a:lnTo>
                    <a:pt x="18000" y="56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S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162560" y="441972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9080" y="4375440"/>
              <a:ext cx="1523520" cy="622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90760" y="4724640"/>
              <a:ext cx="1142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 be in the same J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9AB-DBB2-440A-8FC2-EB4E14DDD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85800" y="380880"/>
          <a:ext cx="813420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813420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3C5-FA66-4778-9EA1-41BB6A5F93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990720" y="990720"/>
          <a:ext cx="7885080" cy="31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8850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1F7-46E1-454E-AEAD-308AF08B41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1066680"/>
          <a:ext cx="818208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1820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5F1-E131-4C0C-BB24-8A848F944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685800"/>
          <a:ext cx="788688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788688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849-3ED5-4893-84F2-FB0C680EC2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80880" y="946080"/>
          <a:ext cx="795996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795996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19320" y="2604960"/>
          <a:ext cx="5975280" cy="31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04960"/>
                    <a:ext cx="597528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324160" y="2604960"/>
          <a:ext cx="5975280" cy="319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4160" y="2604960"/>
                    <a:ext cx="597528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4280" y="2055960"/>
          <a:ext cx="5975280" cy="318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280" y="2055960"/>
                    <a:ext cx="5975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22680" y="2603520"/>
          <a:ext cx="5589720" cy="304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2680" y="2603520"/>
                    <a:ext cx="5589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D3B-11D6-410B-9DEE-AC1D6862C7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228600"/>
          <a:ext cx="8024760" cy="814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024760" cy="81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668-7250-4583-A65B-1B3D81462F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8080" y="3505320"/>
            <a:ext cx="75438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9000" y="3276720"/>
            <a:ext cx="8460360" cy="21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295280"/>
            <a:ext cx="776916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B statement must be the first statement in a job. It suppli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b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dentify the job, along with accounting information and various options that affect how the job is proc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JOB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2FC-C630-4EED-B0BF-86B64BBC6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2:36:31Z</dcterms:created>
  <dc:creator>Tom Murach</dc:creator>
  <dc:description/>
  <dc:language>en-US</dc:language>
  <cp:lastModifiedBy>Noah Pascarell</cp:lastModifiedBy>
  <dcterms:modified xsi:type="dcterms:W3CDTF">2009-01-20T23:12:08Z</dcterms:modified>
  <cp:revision>43</cp:revision>
  <dc:subject/>
  <dc:title>No Slide Title</dc:title>
</cp:coreProperties>
</file>